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C1CF-5B59-4FF1-ACAB-5B4B2560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B06F-7D6C-47E3-91F3-DEABEF71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8DB1-8846-4CA3-AD60-6B5DD7C6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1FEA3-6192-4726-B67D-12C2DC8B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C6A99-9C25-4473-BB86-05EB3DAE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3746A-5446-45B5-BC33-18082D7F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93C63-9105-4BEF-99CC-7F278E48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43798-5E77-4D6D-B29D-59566507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AA58C-5AE9-4201-B659-979CB4CB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9B06D-4794-4D15-B069-11DA1A7A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6CA89-DA28-414B-974C-0554CA8B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D91F-49E9-4019-9337-B07D57CE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A87E9-8FDF-46B9-967D-ABB84FD1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A529A-1AD4-4A3D-8966-6540EF0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12423-0657-472C-A5EC-1E233209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68157-AA23-4339-A74C-7EE200C7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8A7DE-4BED-47BE-B1D3-FB259760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A2B4-A056-4044-BCD7-76E182E5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3C172-B560-4B84-AE67-2AF979B1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D66C-E8B3-4441-8131-70000278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E645-B4E5-484C-8109-E0A43129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5853-41E4-4A65-B3D7-314CB379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1BE2-EC25-41EC-8312-5E5A0C80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E896-1468-4908-BFB9-30116A1B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174A-4852-44EC-ABA2-9774495A8893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AE9A-72B8-4782-8C2F-7141B3DC7DE5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00400" y="5249880"/>
            <a:ext cx="30751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9144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tructure, Process, &amp;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895480"/>
            <a:ext cx="55562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homas B. Valuck, M.D., J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Officer &amp; Senior Advi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63244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2557-BCE1-4D90-9104-21E0C9882F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Gen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gage stakeholde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ly experience from Medicare VBP initiatives and from private-sector performance-based payment initi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multiple approaches to accommodate multiple practice arrangements and care sett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5F499-F0A1-4CB9-9E43-E7BD0D0B9F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eneral (continue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void creating additional health care disparities and work to reduce existing o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velop an ongoing evaluation process to assess impact, monitor for unintended consequences, and support improvement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tailed principles will be addressed in relevant pres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05E3-4BFE-49AD-8EE6-B352BAAC9E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r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troduction, Context, Overarching Questions, and comments – 75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asures presentation and comments –         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unch – 45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fternoon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centive Structure presentation &amp; comments -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ta Strategy and Public Reporting presentations &amp; comments – 40 minutes ea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neral comments – 3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8C2D-C572-4EE2-8A5C-71F990FDE3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ate your name and organiz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mit remarks to 2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ments first from those on-site, then from teleconference participa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l free to leave the room, as needed;  only formal break will be lun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1824480" y="223920"/>
            <a:ext cx="56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FD1E-9CAA-4D13-9B96-3F42807E78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ll the stated objectives, assumptions, and principles support higher quality of care for Medicare beneficiaries and better value from Medicare spending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other planning parameters should be considered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96AC-E08D-457F-AB8F-38FCBA2741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s it desirable to have several different approaches to accommodate different practice arrangements across various care setting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so, how should this be accomplished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B9EB-0886-417E-B6DE-DA039672DA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eps can CMS take in the design and implementation of the PVBP Plan to reduce health care disparities or, at a minimum, to avoid exacerbating existing dispariti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C538-4DFA-4050-8397-8542B8DFBF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3170160" y="223920"/>
            <a:ext cx="27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54BC-FF09-49F6-8E2E-7252BE5516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egislative backgrou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view of CMS process to develop the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VBP assumptions and general design princi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roach to conducting the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arching Questions for com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9ECD-BA18-4209-ABC8-68DC7694E9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egislative Backgroun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 Improvements for Patients and Providers Act (MIPPA) of 2008 requires Secretary of Health and Human Services to develop a plan to transition to value-based purchasing for physician and other professional servi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 to Congress to be submitted by May 1, 2010 containing Plan with recommendations for legislation and administrative a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B8100-4446-4373-B2BA-7F6718033E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Development Structure</a:t>
            </a: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MS PVBP Workgroup with Subgroups to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973E-FD83-4946-998F-97A2118CF5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 Subgroup Lead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chael Rapp, MD, J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Clinical Standards &amp; Quality (OCSQ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Karen Milgat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Policy (O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errence Kay &amp; Thomas Valuck, MD, JD, 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enter for Medicare Manage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illiam Matos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CSQ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ne Thorp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yne Hammen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03B8-86C0-40BF-A390-58947F68A0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CMS PVBP Workgroup Tasks and Expected Timelin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80720" y="1219320"/>
            <a:ext cx="6782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 Workgroup &amp;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Issue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duct Listening Session for          Stakeholder Input on Issue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Option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posed Listening Session for Input on Option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pare draft PVBP Plan Re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bmit Final PVBP Plan Report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371600"/>
            <a:ext cx="990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p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ec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Ju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N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1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ay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7D1D0-DF43-49DC-838C-A47C8FC64F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9907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by CMS PVBP Workgroup and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ted on CMS Website November 24, 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nes key design issues for this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ssumptions intended to provide flexibility in developing Design Options and draft PVBP Pl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akeholder comments, both presented at this Session and submitted in writing, will assist in developing Design O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number of different options will be modeled to explore implications for fee-for-service Medicare population and providers serving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ssues Paper Approac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8092-FCFE-447E-8ECA-1201F586E0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mary focus will be on performance-based pay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accommodate different practice arrang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recognize the contributions of the members of the health professional t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consider multiple levels of accountability, including individual, teams, groups, and “accountable care entitie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A7AA-6C32-47DE-BCA7-8A5E01842B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be at least budget-neutral across at least Medicare Parts A and B and will seek to identify savin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” options will be considered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itial focus will be fee-for-service Medi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design will have short-term (1 – 3 years) and long-term (&gt;3 years) timefra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2606-9BE3-41AF-9306-3A15FF475F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8:51Z</dcterms:modified>
  <cp:revision>4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823259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9914282</vt:r8>
  </property>
</Properties>
</file>